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0EE-11F2-4084-AF1E-CF05E775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737-66FC-4D34-9554-E3F03FCC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810-91EA-4134-97E2-1D69F961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F82-6091-4EAA-BFE6-FF5D5533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7DED-1B4F-4589-867C-8ADE1F61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B51E-1817-487E-94B5-9892C578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E9DD-7F16-47ED-87E4-FAF1D8C0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170B-94B0-4DA5-82C1-7F6D3671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9F47-9D06-4E65-A1AC-70D74773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FE5E-8E87-4593-8A7C-731FD002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21BE-3180-4B18-9C60-3BEE506A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95F-6425-4A33-AAC6-F12C311D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3187-7F4A-4554-A8F9-DD93A7E5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FE0D-FCDA-4332-8D7A-0D2EEAFE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FC74-42BF-4009-8182-F8BAC679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D297-6DFD-4DAE-A7D4-1578890E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6101-1DA2-4A82-A82B-DDE3203E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CEE0D-A858-445C-9833-A4463D2F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9B0F-3A77-4816-B696-3A92FFBB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C064-ECF4-46F1-A220-6473B2AE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8C20-0C44-4D1A-9C66-35DEE41C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95D6-DEBB-479C-8A1A-A3457C27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932-878B-45F9-BBBB-A9E3CD78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7AB3-E837-4812-926F-520D4511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68D5-C468-4546-A291-73AB9334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7B94-1BE6-4148-950B-45068ED9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F1497-40DA-4B37-8E49-A8FFA5CD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015A-276B-46FB-8877-A29863C5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00C4-5684-47F4-829B-FD091CCD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191D-E8C1-4463-9CC4-2A85499E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04750-1CFC-43F8-9028-68533BA0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2514E-F483-4E37-9C93-9DF14070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6D42-5E6C-4AAD-8735-9EBB43D0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28D-84F0-427F-9A77-C4179BEB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B41C0-BE75-4204-B3A4-A5BE154D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68940-C24C-4DCD-A6CA-9344E049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0F3E3-D454-4F6C-80B3-95F8973B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8FCB0-2872-44D8-86E1-53DE4974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A0A5C-37E8-48D3-A870-A3FD894C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52910-77E5-408E-A5E5-BDF1ED55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E75CC-596B-45C7-8F3A-EA3BB0C3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59E6F-417C-4D9C-9E75-2E2C5B18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EC92-4C0B-4DD7-BCCD-82C61E75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3E285-418D-4F1D-9EC4-54F6FB02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3B0-D2CE-496C-8C9D-3ECA1D27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86F98-70D5-463D-A0C5-5FA68F57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241B4-000F-4F2E-A5F2-FD9813C4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0E53F-7E41-4728-885D-14A1EF55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7552D-D993-4259-9997-CDE8FC50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36464-3ACB-4DDF-A749-F1F0291E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8545E-EA7A-4D6F-B0F2-9AB8D89B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89B80-F6FD-40C4-8942-BFBB200D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10318-724E-40B3-9392-CFA0CC52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8CDA3-86DC-4E54-BC57-7DB07D23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EDE5F-856F-493D-8B1C-293D1383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C48-0A5B-47A7-9D4F-68D7BD3E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CD8B0-DF45-4676-85EC-B6304F5A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EDF-327C-4F00-94A9-4F60215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C0A-7A8B-4C20-BABD-1D0682B7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39D-1C06-461B-A2AB-3A34218B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998C-7CD7-4BEB-BD05-A686B0E1E97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6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8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2A58-C2C2-422A-A3DB-8C26CBC2295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17A8-DA69-48ED-B7E8-9D96B529AE0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71AF-7688-4A0D-B455-63E185E8E65C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8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6965-973A-42A9-A7D5-0F11C324759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hyperlink" Target="http://rds.yahoo.com/_ylt=A0WTb_251ZtMsE8AsrCJzbkF;_ylu=X3oDMTBpc2ozM2gzBHBvcwM0BHNlYwNzcgR2dGlkAw--/SIG=1eu7ne37s/EXP=1285367609/**http%3A//images.search.yahoo.com/images/view%3Fback=http%253A%252F%252Fimages.search.yahoo.com%252Fsearch%252Fimages%253Fp%253Dsun%2526ei%253Dutf-8%2526fr%253Dslv8-msgr%26w=3576%26h=3480%26imgurl=ellsworthme.org%252FMESEA%252FSarahSun2.gif%26rurl=http%253A%252F%252Fellsworthme.org%252FMESEA%252F%26size=107KB%26name=Sarah%2527s%2BSun%26p=sun%26oid=b26551eb90bc7e9979f568ae2ac4e3c0%26fr2=%26no=4%26tt=31900000%26sigr=10t2q1cun%26sigi=1137opu9b%26sigb=128mhgj6u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rds.yahoo.com/_ylt=A0PDoYCT3JtMxFkAfhGJzbkF;_ylu=X3oDMTBqamdoM3Q5BHBvcwMxMgRzZWMDc3IEdnRpZAM-/SIG=1ktv1g6mj/EXP=1285369363/**http%3A//images.search.yahoo.com/images/view%3Fback=http%253A%252F%252Fimages.search.yahoo.com%252Fsearch%252Fimages%253Fp%253Dtime%252Bpiece%2526ei%253DUTF-8%2526fr%253Dslv8-msgr%2526fr2%253Dtab-web%26w=640%26h=480%26imgurl=www.randomagic.com%252Fmm5%252Fgraphics%252F00000001%252Fmajestic.jpg%26rurl=http%253A%252F%252Fwww.randomagic.com%252Fmm5%252Fmerchant.mvc%253FScreen%253DPROD%2526Store_Code%253D%2526Product_Code%253Dranmaj%2526Category_Code%253DBestSellers%26size=79KB%26name=...%2BRoyal%2BMajest...%26p=time%2Bpiece%26oid=b68be996bc4d5f32941a74a83317fd8f%26fr2=tab-web%26no=12%26tt=5560000%26sigr=13g27c89k%26sigi=11l7evtsn%26sigb=12rfcr1eh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about.com/" TargetMode="External"/><Relationship Id="rId3" Type="http://schemas.openxmlformats.org/officeDocument/2006/relationships/hyperlink" Target="http://www.wiki.answers.com/" TargetMode="External"/><Relationship Id="rId4" Type="http://schemas.openxmlformats.org/officeDocument/2006/relationships/hyperlink" Target="http://www.answers.com/" TargetMode="External"/><Relationship Id="rId5" Type="http://schemas.openxmlformats.org/officeDocument/2006/relationships/hyperlink" Target="http://www.black-inventor.com/Benjamin-Banneker.asp" TargetMode="External"/><Relationship Id="rId6" Type="http://schemas.openxmlformats.org/officeDocument/2006/relationships/hyperlink" Target="http://www.itsaboutclocks.com/" TargetMode="External"/><Relationship Id="rId7" Type="http://schemas.openxmlformats.org/officeDocument/2006/relationships/hyperlink" Target="file:///a74a83317fd8f&amp;fr2=tab-web&amp;no=12&amp;tt=5560000&amp;sigr=13g27c89k&amp;sigi=11l7evtsn&amp;sigb=12rfcr1eh" TargetMode="External"/><Relationship Id="rId8" Type="http://schemas.openxmlformats.org/officeDocument/2006/relationships/hyperlink" Target="file:///a74a83317fd8f&amp;fr2=tab-web&amp;no=12&amp;tt=5560000&amp;sigr=13g27c89k&amp;sigi=11l7evtsn&amp;sigb=12rfcr1eh" TargetMode="External"/><Relationship Id="rId9" Type="http://schemas.openxmlformats.org/officeDocument/2006/relationships/hyperlink" Target="file:///a74a83317fd8f&amp;fr2=tab-web&amp;no=12&amp;tt=5560000&amp;sigr=13g27c89k&amp;sigi=11l7evtsn&amp;sigb=12rfcr1eh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Destiny Tucker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Before clocks were made, time was told by the way the sun moved. The word clock was first used i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the 14</a:t>
            </a:r>
            <a:r>
              <a:rPr b="0" lang="en-US" sz="2600" spc="-1" strike="noStrike" baseline="30000">
                <a:solidFill>
                  <a:srgbClr val="ac66bb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 century, it’s from the Lat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word “clocca” which means bel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5720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83d68"/>
                </a:solidFill>
                <a:latin typeface="Trebuchet MS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ff"/>
                </a:solidFill>
                <a:latin typeface="Trebuchet MS"/>
              </a:rPr>
              <a:t>Early clock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In the early 1750’s, Benjamin Banneker invented the first cloc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He got the idea of making the clock from studying a pocket watch he got from a wealthy associat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After studying the watch, h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made a fully functioned cloc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made out of wooden pie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clock.gif"/>
          <p:cNvPicPr/>
          <p:nvPr/>
        </p:nvPicPr>
        <p:blipFill>
          <a:blip r:embed="rId1"/>
          <a:stretch/>
        </p:blipFill>
        <p:spPr>
          <a:xfrm>
            <a:off x="5410080" y="3581280"/>
            <a:ext cx="1981440" cy="2882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rebuchet MS"/>
              </a:rPr>
              <a:t>Peter Henlein made the time piece, better known as a wrist watch in 1504. But in 1878, Sir Sanford Fleming made it more accurat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rebuchet MS"/>
              </a:rPr>
              <a:t>Christian Huygens made the clock more accurate when he invented the pendulum clock, better known as the “Grandfather Clock”, in 1656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rebuchet MS"/>
              </a:rPr>
              <a:t>The clock that’s used in our every day life is called the quartz clock, It was invented in 1927 by Warren Marriso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304920"/>
            <a:ext cx="7467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de66"/>
                </a:solidFill>
                <a:latin typeface="Trebuchet MS"/>
              </a:rPr>
              <a:t>Changes of clocks over the years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60896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lock.gif"/>
          <p:cNvPicPr/>
          <p:nvPr/>
        </p:nvPicPr>
        <p:blipFill>
          <a:blip r:embed="rId2"/>
          <a:stretch/>
        </p:blipFill>
        <p:spPr>
          <a:xfrm>
            <a:off x="3200400" y="1828800"/>
            <a:ext cx="1380960" cy="2009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05740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4419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Go to fullsize image"/>
          <p:cNvPicPr/>
          <p:nvPr/>
        </p:nvPicPr>
        <p:blipFill>
          <a:blip r:embed="rId7"/>
          <a:stretch/>
        </p:blipFill>
        <p:spPr>
          <a:xfrm>
            <a:off x="5486400" y="2133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3429000" y="3960720"/>
            <a:ext cx="2590920" cy="2568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2"/>
              </a:rPr>
              <a:t>www.about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3"/>
              </a:rPr>
              <a:t>www.Wiki.answers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4"/>
              </a:rPr>
              <a:t>www.answers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5"/>
              </a:rPr>
              <a:t>http://www.black-inventor.com/Benjamin-Banneker.asp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6"/>
              </a:rPr>
              <a:t>www.itsaboutclocks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90c5"/>
                </a:solidFill>
                <a:latin typeface="Trebuchet MS"/>
              </a:rPr>
              <a:t>Pictu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1</a:t>
            </a: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7"/>
              </a:rPr>
              <a:t>a74a83317fd8f&amp;fr2=tab-</a:t>
            </a: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8"/>
              </a:rPr>
              <a:t>web&amp;no</a:t>
            </a: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9"/>
              </a:rPr>
              <a:t>=12&amp;tt=5560000&amp;sigr=13g27c89k&amp;sigi=11l7evtsn&amp;sigb=12rfcr1eh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http://images.search.yahoo.com/search/images?p=pendulum+clock&amp;fr2=tab-web&amp;xargs=0&amp;pstart=1&amp;b=21&amp;ni=20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http://www.theclockgallery.com/usrimage/85786.jpg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http://www.bnl.gov/bera/activities/globe/Banneker_files/clock.gif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77320" cy="685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8000" spc="-1" strike="noStrike">
                <a:solidFill>
                  <a:srgbClr val="d60093"/>
                </a:solidFill>
                <a:latin typeface="Trebuchet MS"/>
              </a:rPr>
              <a:t>The End!!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38:53Z</dcterms:created>
  <dc:creator>student</dc:creator>
  <dc:description/>
  <dc:language>en-US</dc:language>
  <cp:lastModifiedBy>Taylor</cp:lastModifiedBy>
  <dcterms:modified xsi:type="dcterms:W3CDTF">2010-09-23T23:55:28Z</dcterms:modified>
  <cp:revision>15</cp:revision>
  <dc:subject/>
  <dc:title>The History of Clock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6560281</vt:r8>
  </property>
</Properties>
</file>